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58F-E98D-483E-965F-E6300CE9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A3C-3B24-4579-9627-C5024AC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13A-3040-4AB4-A7BA-759B39B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372-B59A-4164-88AD-06B8A570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975-5B7A-4DAA-B938-C1290D8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6F6-8396-498D-96A5-E85B556B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F50-B4BC-474B-8A9D-9F5B982B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DD7-7C68-4970-8BC6-5569C967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167-7328-44B9-9122-BA51C8CB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DD-35BE-40C4-8EAD-86CFE0F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80-F8B7-45D7-968C-01227064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C64-1ED6-4F84-8208-89CC33E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FFB-DE25-492A-B18E-CA55C15C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Arctic Low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8 landform regions of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838080"/>
            <a:ext cx="6324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Western Cordilleran, Interior Plains, Innuitian Mountains, Hudson Bay Lowlands, Canadian Shield, Appalachian Mountains, Great Lakes – St. Lawrence Lowlands, and the Arctic Low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0574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region does not have coal, gas or oil because when it was formed there were no plants or anim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anadian Shi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climate region that Ottawa is locat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utheas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area in Canada where orographic precipitation occurs m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itish Columb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ir mass affects Canada most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ntinental Arcti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wo ocean currents form fog off the east coast of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Labrador and Gulf Stream curr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Canada, the dominant winds come from this direction and are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west and Westerl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WERN is an acronym for these six factors that affect clim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Latitude, Ocean Currents, Wind (prevailing), Elevation, Relief, and Nearness (proximity) to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ke Ontario has a moderating affect on Toronto in this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t makes it warmer in the winter and cooler in the summ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ound the world, high and low pressure belts have created a well established pattern of the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Gran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prevailing wi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 masses are classified by these two criter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isture (dry or moist) and temperature (arctic, polar, or tropical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high the jet stream is and how fast it can m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9000 to 18000 meters and 300 Km/h to 500 Km/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colours used to create a climat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blue, green, and red</a:t>
            </a:r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emperature range for Ottawa if the lowest temperature is -1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and the highest temperature is 2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and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nada’s Clim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te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te 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ir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tremely Ran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mbination of temperature and precipitation, etc. experienced daily i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onth is considered a growing season month when the average temperature is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5.6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or gre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riteria is used to judge whether a location’s climate is continental or mariti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emperature range, season of maximum precipitation and total preciptation(greater or less than 1000mm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ost significant landform region in the Yuk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the term for precipitation and temperature patterns averaged over a long period of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clim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a cartographer, what is there a severe shortage of in this classro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ke off his sho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estern Cordill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rovince that Mr. Grant is fr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ova Scot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ING AIR M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20574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much the temperature will drop per 100m before and after an air mass condenses as it moves up a moun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2860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 degree Celsius per 100m before condensation and 0.6 degrees Celsius per 100m after condens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untain range was formed when North America collided with Europe and North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ppalachi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96524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oils of this region remain frozen most of the year but are rich in oil, gas and co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C39660</cp:lastModifiedBy>
  <dcterms:modified xsi:type="dcterms:W3CDTF">2014-05-14T16:24:49Z</dcterms:modified>
  <cp:revision>60</cp:revision>
  <dc:subject/>
  <dc:title>No Slide Title</dc:title>
</cp:coreProperties>
</file>